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92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808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940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808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940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92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rlow Solid Italic"/>
              </a:rPr>
              <a:t>Module 9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Harlow Solid Italic"/>
              </a:rPr>
              <a:t>Classical Conditio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616200" cy="4572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3440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n Emotional Responses Be Conditioned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ohn Watson tried to classically condition an emotional response in a young child named Little Albe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presented a white rat followed by a loud noise that elicited a startle and cry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5105160" cy="1687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76720" y="4876920"/>
            <a:ext cx="5105160" cy="171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6760" y="4343400"/>
            <a:ext cx="8610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bert developed an emotional response (fear) to the white r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7605720" y="32140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PhotoDisc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7605720" y="55000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PhotoDisc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52280" y="2438280"/>
            <a:ext cx="2057400" cy="1936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52280" y="4876920"/>
            <a:ext cx="27432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ystematic Desensitizati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cedure based on classical conditio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son imagines or visualizes fearful or anxiety-evoking stimuli and then immediately uses deep relaxation to overcome the anx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rves as a form of counter conditioning because it replaces fear with relax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38680" y="2895480"/>
            <a:ext cx="2870280" cy="3353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7160" y="3200400"/>
            <a:ext cx="50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Steps To Systematic Desensi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038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) Learn to rel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Make an anxiety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) Imagine and rel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10080" y="1066680"/>
            <a:ext cx="3173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itannic Bold"/>
              </a:rPr>
              <a:t>3 Kinds of Lear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rlin Sans FB"/>
              </a:rPr>
              <a:t>Classical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d of learning in which a neutral stimulus acquires the ability to produce a response that was originally produced by a different stim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rlin Sans FB"/>
              </a:rPr>
              <a:t>Operant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d of learning in which the consequences that follow some behavior increase or decrease the likelihood of that behavior’s occurrence in the fut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rlin Sans FB"/>
              </a:rPr>
              <a:t>Cogni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d of learning that involves mental processes, such as attention and mem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y be learned through observation or imit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y not involve any external rew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cedure: Select Stimulus &amp; Respons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pperplate Gothic Bold"/>
              </a:rPr>
              <a:t>Neutral Stim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uses a sensory response, does not produce the reflex being tes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pperplate Gothic Bold"/>
              </a:rPr>
              <a:t>Unconditioned Stimulus (UC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iggers a physiological reflex, such as salivation or eye blin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pperplate Gothic Bold"/>
              </a:rPr>
              <a:t>Unconditioned Response (U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unlearned, innate, involuntary physiological reflex that is elicited by the U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733920" y="1066680"/>
            <a:ext cx="655560" cy="106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410080" y="2590920"/>
            <a:ext cx="528840" cy="129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257800" y="4419720"/>
            <a:ext cx="6001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cedure: Establishing Classical Condition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mon procedure used in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lassical conditio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esent both stimu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ypical t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ir the neutral stimulus (tone) with the UCS (foo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one + Food = UCR (Salivat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84120" y="3429000"/>
            <a:ext cx="1890720" cy="3073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1822320" cy="306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943440" y="3429000"/>
            <a:ext cx="12556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esting For Condition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fter 10 to 100 trials, test for the occurrence of classical conditio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esent the CS (tone) without the UCS (foo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ditioned stimulus (C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erly neutral stimulus that has acquired the ability to elicit a response that was previously elicited by the U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ditioned response (C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icited by the  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R is similar to, but not identical in size or amount to, the UC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90920" y="4572000"/>
            <a:ext cx="3784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ther Conditioning Concept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1247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General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Tendency for a stimulus that is similar to the original CS to elicit a response that is similar to the C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la may also experience anxiety when smelling her own hair shampoo because it is similar to the dentist’s afters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iscrimin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Occurs when an organism learns to make a particular response to some stimuli but not oth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mell of Carla’s nail polish does not elicit feelings of anx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Extin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A procedure in which a CS is repeatedly presented without the U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, the CS no longer elicits the 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543800" y="838080"/>
            <a:ext cx="1200240" cy="2590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620120" y="3962520"/>
            <a:ext cx="111096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ther Conditioning Concepts cont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pontaneous Recove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Tendency for the CR to reappear after being extinguished even though there have been no further conditioning tri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8120" y="2514600"/>
            <a:ext cx="29559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ow Useful is Classical Conditioning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daptive val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ertain abilities or traits that have evolved in animals and humans that increases their chance of survi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ding food, acquiring mates, and avoiding pa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aste-aversion lea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sociating a particular sensory cue with getting si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after avoiding that particular sensory c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ts quickly learn to avoid the smells or taste associated with getting sick after eating poisonous ba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112160" y="4381560"/>
            <a:ext cx="1724040" cy="236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1295280" y="12193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419720"/>
            <a:ext cx="6515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Preparedn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imals and humans are biologically prepared to associate some combinations of conditioned and unconditioned stimuli more easily than oth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ditioned Emotional Respons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eling some positive or negative emotion when experiencing a stimulus that initially accompanied a pleasant or painful ev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y couples have a special song that becomes emotionally associated with their relation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2168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9:20:29Z</dcterms:created>
  <dc:creator>Josh</dc:creator>
  <dc:description/>
  <dc:language>en-US</dc:language>
  <cp:lastModifiedBy>tmacleod</cp:lastModifiedBy>
  <dcterms:modified xsi:type="dcterms:W3CDTF">2006-10-10T17:30:06Z</dcterms:modified>
  <cp:revision>19</cp:revision>
  <dc:subject/>
  <dc:title>No Slide Title</dc:title>
</cp:coreProperties>
</file>